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5B2-8E60-42AF-94ED-498F2E2C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17F-01B8-440F-A6CF-521263F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E04-4DC4-4269-BA70-E828553A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DF0-8A46-4211-B60C-B45D45D8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8059-A7DC-4225-9371-5B8021DE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4B9D-EA8D-4847-BE03-62995638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5ECD-30E2-4B47-A36A-4BF0573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C8E-35CA-42B9-8009-4F24C99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B46-6A9C-48A2-8F89-50F3B173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0F7-A184-46E6-BDCD-ED7D2E6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46CA-D626-421B-B326-818D1BF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E27-A626-448F-93A2-EB0B2605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B2F5-9B26-470E-B5F4-59D6BB6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3FAD-1E6C-4C71-96C5-5B17778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8A1-0206-433A-8665-6F99B11D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35A-672B-458B-83EB-B5893DE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101-9A1B-4EFD-8B99-0D46C2D4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A6E-7E37-4F2B-B983-2487326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E72-28BA-48AA-A20F-0492A41A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064-216E-4AF5-B651-A5BCBF9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9C0-1F51-42D6-BBF8-8074824E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EA5-1EAB-4FB2-A8E5-D7DBBFC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51C-86EC-4FB4-98C2-F95B306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C49-7F54-46C4-8CE1-BE0818B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73D-3FDC-4848-BC4B-D82103B62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B89-6EE0-4D0F-9F76-A55C67CC7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h Department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49440" y="3890880"/>
            <a:ext cx="6045120" cy="17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1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41600"/>
          <a:ext cx="7772400" cy="730080"/>
        </p:xfrm>
        <a:graphic>
          <a:graphicData uri="http://schemas.openxmlformats.org/drawingml/2006/table">
            <a:tbl>
              <a:tblPr/>
              <a:tblGrid>
                <a:gridCol w="1554480"/>
                <a:gridCol w="1554840"/>
                <a:gridCol w="1553400"/>
                <a:gridCol w="1554840"/>
                <a:gridCol w="155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TextBox 5"/>
          <p:cNvSpPr/>
          <p:nvPr/>
        </p:nvSpPr>
        <p:spPr>
          <a:xfrm>
            <a:off x="533520" y="3505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33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  67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641600"/>
          <a:ext cx="7772400" cy="1004760"/>
        </p:xfrm>
        <a:graphic>
          <a:graphicData uri="http://schemas.openxmlformats.org/drawingml/2006/table">
            <a:tbl>
              <a:tblPr/>
              <a:tblGrid>
                <a:gridCol w="1554120"/>
                <a:gridCol w="1555920"/>
                <a:gridCol w="1552320"/>
                <a:gridCol w="1555920"/>
                <a:gridCol w="155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TextBox 4"/>
          <p:cNvSpPr/>
          <p:nvPr/>
        </p:nvSpPr>
        <p:spPr>
          <a:xfrm>
            <a:off x="533520" y="320040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TAL # OF STUDENTS: 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56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44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1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&amp;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1:The learner will perform operations with complex number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matrices, and polynomi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2: The learner will use relations and functions to solve proble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2: Define and compute with complex number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03: Operate with algebraic expressions to solve probl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1.04: Operate with matrices to model and solve probl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2.02: Use quadratic functions and inequalities to model and solve problem;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2.04: Create and use best-fit mathematical models of linear, exponential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and quadratic functions to solve problems involving sets of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08: Use equations and inequalities with absolute value to model and solv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10: Use systems of two or more equations or inequalities to model a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solve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EBRA II HONOR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641600"/>
          <a:ext cx="7772400" cy="1004760"/>
        </p:xfrm>
        <a:graphic>
          <a:graphicData uri="http://schemas.openxmlformats.org/drawingml/2006/table">
            <a:tbl>
              <a:tblPr/>
              <a:tblGrid>
                <a:gridCol w="1554120"/>
                <a:gridCol w="1555920"/>
                <a:gridCol w="1552320"/>
                <a:gridCol w="1555920"/>
                <a:gridCol w="155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STU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533520" y="32004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TAL # OF STUDENTS:  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PROFICIENT: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100%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 NONPROFICIENT:     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2: The learner will use relations and functions to solve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04: Create and use best-fit mathematical models of linear, exponential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and quadratic functions to solve problems involving sets of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08: Use equations and inequalities with absolute value to model and solv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2.10: Use systems of two or more equations or inequalities to model an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lve problems; justify resul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tal Combined Sc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1752480"/>
          <a:ext cx="6095880" cy="1963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all Total # of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19320" y="426708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PROFICIENT: 62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 NONPROFICIENT: 37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room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-school Tu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-School Tu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Review – Students are put into groups and go through the test together.  Students are required to write down clues and solve each problem showing all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s after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OC Coach Workbooks (Good Sta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1:37:43Z</dcterms:created>
  <dc:creator>Ashley</dc:creator>
  <dc:description/>
  <dc:language>en-US</dc:language>
  <cp:lastModifiedBy>shirley johnson</cp:lastModifiedBy>
  <dcterms:modified xsi:type="dcterms:W3CDTF">2010-02-17T19:31:12Z</dcterms:modified>
  <cp:revision>7</cp:revision>
  <dc:subject/>
  <dc:title>Math Department Date</dc:title>
</cp:coreProperties>
</file>